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B37-44EF-4846-91D4-DC0F0C2A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81F-D94D-44A0-B191-7F8C2637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9A1-558E-47DB-9C36-A355900A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6D2-EC4B-4231-A46B-69CC8454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FE59-E968-4DEA-9879-843E0B51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FE8F-D3B6-4A70-BBFE-97752A94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8483-5ADD-42F5-821F-AB79A770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2046-ED04-4BBB-9B68-937963B2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F009-8623-44F7-BC6D-0D72F6C2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F149-932E-45A5-82EC-18B4114A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EABF-B7A4-46B8-B38D-B4189C1B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E31-71E6-4640-8F98-EBB9CC67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50A4-684A-4726-99F5-7E216AB8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9877-60A7-4000-80DF-93091182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1D83-07A3-4064-9E90-6D864F4D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7611-5702-4AE1-8657-DC935F15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3940-161B-4142-BAED-AEFF2331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2FD-D082-4E2E-9695-C3B58CB9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09E-B547-4074-BD18-7C549659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C69-E2CB-4BC2-BDBF-6743B2D9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2EA-843B-44B2-B9BE-E144D04A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9E5-E66F-49A2-A9B1-31037223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A47-8AF7-4B09-81E9-8CBB6ADA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296-17D1-47E0-A94E-5F9A3CA5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asu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pple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asu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pple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asu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pple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asu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pple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asu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pple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asu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pple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asu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pple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asu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6D67-F40C-4AB0-9679-F55E67AB6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asu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F4BB-2A36-41E1-9204-32B9E9BD9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asu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ple Casu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ple Casu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pple Casu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ple Casu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pple Casu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pple Casu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pple Casu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pple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pple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asual"/>
              </a:rPr>
              <a:t>US History EOC Review</a:t>
            </a: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asual"/>
              </a:rPr>
              <a:t>Flashcards for “Guaranteed”</a:t>
            </a: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asual"/>
              </a:rPr>
              <a:t>Vocabulary on the Final Exam</a:t>
            </a: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810240" cy="2446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9600" y="4269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5257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pple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pple Casual"/>
              </a:rPr>
              <a:t>LA Purchase</a:t>
            </a: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 doubled the size of the US but also increas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pple Casual"/>
              </a:rPr>
              <a:t>sectionalism</a:t>
            </a: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pple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Who would decide whether new territory was slave or free?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pple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This legislation made the following compromises: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pple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</a:rPr>
              <a:t>North of the line would enter as free states</a:t>
            </a:r>
            <a:endParaRPr b="0" lang="en-US" sz="1800" spc="-1" strike="noStrike">
              <a:solidFill>
                <a:srgbClr val="000000"/>
              </a:solidFill>
              <a:latin typeface="Apple Casu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pple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</a:rPr>
              <a:t>South of the line would enter as slave states</a:t>
            </a:r>
            <a:endParaRPr b="0" lang="en-US" sz="1800" spc="-1" strike="noStrike">
              <a:solidFill>
                <a:srgbClr val="000000"/>
              </a:solidFill>
              <a:latin typeface="Apple Casu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pple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</a:rPr>
              <a:t>Exception: MO north of line but slave state</a:t>
            </a:r>
            <a:endParaRPr b="0" lang="en-US" sz="1800" spc="-1" strike="noStrike">
              <a:solidFill>
                <a:srgbClr val="000000"/>
              </a:solidFill>
              <a:latin typeface="Apple Casu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pple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</a:rPr>
              <a:t>ME sectioned off from MA and entered as free state to balance power in Senate</a:t>
            </a:r>
            <a:endParaRPr b="0" lang="en-US" sz="1800" spc="-1" strike="noStrike">
              <a:solidFill>
                <a:srgbClr val="000000"/>
              </a:solidFill>
              <a:latin typeface="Apple Casu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pple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The South would continue to argue that Congress did not have the power to ban slavery in the Northern territories.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asual"/>
              </a:rPr>
              <a:t>Missouri Compromise of 1820</a:t>
            </a: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36680" y="414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487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pple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Legislation proposed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pple Casual"/>
              </a:rPr>
              <a:t>Henry Clay</a:t>
            </a: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 in respons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pple Casual"/>
              </a:rPr>
              <a:t>sectionalism</a:t>
            </a: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 over the issue of slavery.  Proposals passed: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pple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</a:rPr>
              <a:t>CA enters as a free state</a:t>
            </a:r>
            <a:endParaRPr b="0" lang="en-US" sz="1800" spc="-1" strike="noStrike">
              <a:solidFill>
                <a:srgbClr val="000000"/>
              </a:solidFill>
              <a:latin typeface="Apple Casu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pple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pple Casual"/>
              </a:rPr>
              <a:t>Popular sovereignty</a:t>
            </a:r>
            <a:r>
              <a:rPr b="0" lang="en-US" sz="1800" spc="-1" strike="noStrike">
                <a:solidFill>
                  <a:srgbClr val="000000"/>
                </a:solidFill>
                <a:latin typeface="Apple Casual"/>
              </a:rPr>
              <a:t> in NM &amp; UT</a:t>
            </a:r>
            <a:endParaRPr b="0" lang="en-US" sz="1800" spc="-1" strike="noStrike">
              <a:solidFill>
                <a:srgbClr val="000000"/>
              </a:solidFill>
              <a:latin typeface="Apple Casu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pple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</a:rPr>
              <a:t>Slave trade (NOT slavery) banned in D.C.</a:t>
            </a:r>
            <a:endParaRPr b="0" lang="en-US" sz="1800" spc="-1" strike="noStrike">
              <a:solidFill>
                <a:srgbClr val="000000"/>
              </a:solidFill>
              <a:latin typeface="Apple Casu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pple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pple Casual"/>
              </a:rPr>
              <a:t>Fugitive Slave Act</a:t>
            </a:r>
            <a:endParaRPr b="0" lang="en-US" sz="1800" spc="-1" strike="noStrike">
              <a:solidFill>
                <a:srgbClr val="000000"/>
              </a:solidFill>
              <a:latin typeface="Apple Casu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pple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</a:rPr>
              <a:t>TX gets $10 M to give up NM territory</a:t>
            </a:r>
            <a:endParaRPr b="0" lang="en-US" sz="1800" spc="-1" strike="noStrike">
              <a:solidFill>
                <a:srgbClr val="000000"/>
              </a:solidFill>
              <a:latin typeface="Apple Casual"/>
            </a:endParaRPr>
          </a:p>
          <a:p>
            <a:pPr lvl="1" marL="69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pple Casu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pple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As tensions rose between N &amp; S, politicians tried to compromise, but their efforts only stalled the war to come.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pple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</a:rPr>
              <a:t>Northerners were angry about Fugitive Slave Act</a:t>
            </a:r>
            <a:endParaRPr b="0" lang="en-US" sz="1800" spc="-1" strike="noStrike">
              <a:solidFill>
                <a:srgbClr val="000000"/>
              </a:solidFill>
              <a:latin typeface="Apple Casu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pple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</a:rPr>
              <a:t>Southerners were angry about CA (in general abou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pple Casual"/>
              </a:rPr>
              <a:t>federal power over state power</a:t>
            </a:r>
            <a:r>
              <a:rPr b="0" lang="en-US" sz="1800" spc="-1" strike="noStrike">
                <a:solidFill>
                  <a:srgbClr val="000000"/>
                </a:solidFill>
                <a:latin typeface="Apple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pple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asual"/>
              </a:rPr>
              <a:t>Compromise of 1850</a:t>
            </a: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351080"/>
            <a:ext cx="4419360" cy="2868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9280" y="8424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pple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Legislation proposed by Illinois Senat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pple Casual"/>
              </a:rPr>
              <a:t>Stephen A. Douglas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pple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pple Casual"/>
              </a:rPr>
              <a:t>MO Compromise of 1820</a:t>
            </a: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 had banned slavery for the Kansas-Nebraska territory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pple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Repealed the MO Compromise by allowing the KS and NE territories to u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pple Casual"/>
              </a:rPr>
              <a:t>popular sovereignty</a:t>
            </a: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 to decide slavery issue.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pple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Resulted in rapid settlement of the area &amp; violence that came to be known as 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pple Casual"/>
              </a:rPr>
              <a:t>Bleeding Kansas</a:t>
            </a:r>
            <a:r>
              <a:rPr b="0" lang="en-US" sz="2000" spc="-1" strike="noStrike">
                <a:solidFill>
                  <a:srgbClr val="000000"/>
                </a:solidFill>
                <a:latin typeface="Apple Casu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pple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asual"/>
              </a:rPr>
              <a:t>Kansas-Nebraska Act of 1854</a:t>
            </a:r>
            <a:endParaRPr b="0" lang="en-US" sz="4400" spc="-1" strike="noStrike">
              <a:solidFill>
                <a:srgbClr val="000000"/>
              </a:solidFill>
              <a:latin typeface="Apple Casu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pple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14:55:58Z</dcterms:created>
  <dc:creator>Northwood Highschool</dc:creator>
  <dc:description/>
  <dc:language>en-US</dc:language>
  <cp:lastModifiedBy>Northwood Highschool</cp:lastModifiedBy>
  <dcterms:modified xsi:type="dcterms:W3CDTF">2010-01-02T16:17:44Z</dcterms:modified>
  <cp:revision>3</cp:revision>
  <dc:subject/>
  <dc:title>US History EOC Review</dc:title>
</cp:coreProperties>
</file>